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494-BF26-4855-838A-0CEB1AC9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AF3-5449-47FD-AB86-0EA68B33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E4C-4B4E-4374-940B-406ADB4B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B1B-F70B-4ECE-B182-090FC279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175-4FF4-46F9-A54B-E4351831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036-CAF4-48E8-ADE9-F82CFFC3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CC9-CA73-4E26-BADA-0EAA75FB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94B-FF11-48DB-9762-9F074A06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A2B-1DDD-44E8-804E-F14ABC99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B17-14B5-44D4-A523-474FE57B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5CA-20B9-4EC1-BC1A-CC15271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992-D100-497C-B423-FA50CEA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3359-7FC0-4596-BA7E-A12AD7970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plp.ning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-plp.wikispaces.com/" TargetMode="External"/><Relationship Id="rId3" Type="http://schemas.openxmlformats.org/officeDocument/2006/relationships/hyperlink" Target="http://wnyplp.ning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0"/>
            <a:ext cx="29718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5410080"/>
            <a:ext cx="213372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914400"/>
            <a:ext cx="4648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ING- our V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143000"/>
            <a:ext cx="6324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social networking site that provides for blogs, forums, and other content sha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place to get folks started using the tools and sharing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place you will be helping to lead the conversations and resource sh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ur Ning site will b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nyplp.ning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76212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ur 2-hour after-school sessions in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Elluminate between late Nov. - Apr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ach session repeated two times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To keep group size sm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imes we meet are 2-4pm – try and lo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5 -20 min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vest in a headset and do NOT sit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am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llu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0"/>
            <a:ext cx="14479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410080"/>
            <a:ext cx="1295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990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Questions? Comments?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76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81080" y="87948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on't be too timid and squeamish about your actions. All life is an experiment. The more experiments you make the better.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lph Waldo Em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257800"/>
            <a:ext cx="12193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2588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elcome and In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066680"/>
            <a:ext cx="6858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ck Overview of Elluminat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st example of technology use you have seen in your building/district- by you– or someone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2962080" cy="160164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werful Learning Practice for Administrators and Teacher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096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15238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2096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F-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90512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ense of urgency, build community, whet appet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8288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50 + meet, 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0"/>
            <a:ext cx="12193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486400"/>
            <a:ext cx="990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190512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C where we deepen understanding, network, and share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65760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virtual community designed to help participants gain an understanding of the transformative potential of Web 2.0 tools in a global perspective and context, and how those potentials can be translated into classroom practice in Western NY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96080" y="0"/>
            <a:ext cx="14479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5486400"/>
            <a:ext cx="1143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990720"/>
            <a:ext cx="746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ek out schools willing to invest some time in exploring the challenge of 21st Century Lea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sk the schools to identify small teams of educators who are ready for this explo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ith the support of the PLP Fellows, begin that exploration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…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ith the eventual goal of "scaling up" the exploration in each participating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ur basic experimental design is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7150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1190160"/>
            <a:ext cx="7391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schools (teams of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team has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Fellows to support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f2f mee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live curriculum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going collaboration in V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/Pos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velopment of 3-5 yea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1062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6160" cy="199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22860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tting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people </a:t>
            </a:r>
            <a:br>
              <a:rPr sz="32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e bus and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WRONG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eopl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2044800"/>
            <a:ext cx="4267440" cy="3213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40384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im Collins, “Good to Gr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47920" y="3049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0080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e-to-Face Meeting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v. 5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y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luminate Sessions (2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1 (Intro to 21st Century teaching) Nov. 29, Dec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2 (Cool Tools): Jan. 30, Feb.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3 (It's All About the Learning):  Feb 26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4 (Virtual Learning Fair):  April  28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rtual Learning Community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80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ollabora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523880"/>
            <a:ext cx="640080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ny-plp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nyplp.ning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5120" y="763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P Kickoff Meeting 1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17524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838080"/>
            <a:ext cx="701064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ov. 5 – 8:30 – 3pm at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rie 1 BOCES Educatio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ll participating school teams and PLP Fellows will attend with other special g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OLUNTE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Refresher/Review of Use of Blogs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: as a tool for learning: For those who have not created and/or actively used blogs as a teaching to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Advanced Blogs: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This session is for those who are interested in maximizing their use of blogs as a teaching tool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Refresher/Review of Use of Wikis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: For those new to wik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Advanced Wiki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: For those who want to learn more about 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Introduction to Ning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, Virtual Learning Community  (all participants will participate in this session, which is offered 3 ti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45:50Z</dcterms:created>
  <dc:creator>Your User Name</dc:creator>
  <dc:description/>
  <dc:language>en-US</dc:language>
  <cp:lastModifiedBy>Sheryl Nussbaum-Beach</cp:lastModifiedBy>
  <dcterms:modified xsi:type="dcterms:W3CDTF">2007-10-22T19:12:25Z</dcterms:modified>
  <cp:revision>87</cp:revision>
  <dc:subject/>
  <dc:title>Slide 1</dc:title>
</cp:coreProperties>
</file>